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19.jpeg" ContentType="image/jpeg"/>
  <Override PartName="/ppt/media/image32.gif" ContentType="image/gif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wmf" ContentType="image/x-wmf"/>
  <Override PartName="/ppt/media/image22.jpeg" ContentType="image/jpeg"/>
  <Override PartName="/ppt/media/image16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2573-264A-4AA4-8226-5BD73A072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9E40-2E1B-4EC7-8248-18C44954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CFD2-81D8-46D8-829B-BFA85965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AC84-72F3-4CAC-8753-28388D9C7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BC89-4D39-4D51-B4F5-AC73BD0A4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D297-D170-4971-95B3-B67C4A25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14D0-C5E1-4C8A-B7EE-A3273EB8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CB75-BB71-4744-9E1E-E6805FB7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13ED-6351-4148-8A90-DF7126B9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14E1-8376-4BB9-BB1E-C7ED5733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AAB0-F2FB-4120-BCEA-C9A15E52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05F8-3EDE-44AE-BEAF-2EC89377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BCA1-1A72-4746-82A2-F55D2724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5306-95CD-4F23-B342-8DBD218B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59D9-549E-4952-9C47-53AED5C9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7210-989D-4047-AC6B-336CEAC8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0063-C82A-43A7-B4F7-3EFA803F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4ECD-C35F-4F32-92E0-29F1344B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E083-CBBE-443D-B6FF-458EE017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1746-1171-4C21-ABDB-054749E8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7676-ACC9-4853-B330-2E616FA8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A23A-C2B7-47AD-B620-A147A2E5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A4B1-EEF9-41BF-BA65-0CCF2460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1A87-2A9D-412B-97B1-856B0725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B775-CFC9-4C00-9646-E8A1DED979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3"/>
          <a:stretch/>
        </p:blipFill>
        <p:spPr>
          <a:xfrm>
            <a:off x="7642080" y="6651720"/>
            <a:ext cx="1487520" cy="183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5"/>
          <p:cNvSpPr>
            <a:spLocks noGrp="1"/>
          </p:cNvSpPr>
          <p:nvPr>
            <p:ph type="sldNum" idx="6"/>
          </p:nvPr>
        </p:nvSpPr>
        <p:spPr>
          <a:xfrm>
            <a:off x="6516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8D72-9273-439A-B433-72A665037BA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4"/>
          <p:cNvSpPr txBox="1"/>
          <p:nvPr/>
        </p:nvSpPr>
        <p:spPr>
          <a:xfrm>
            <a:off x="250920" y="3068640"/>
            <a:ext cx="8388360" cy="14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I’ll help clean up the city park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2" name="WordArt 5"/>
          <p:cNvSpPr txBox="1"/>
          <p:nvPr/>
        </p:nvSpPr>
        <p:spPr>
          <a:xfrm>
            <a:off x="3132000" y="981000"/>
            <a:ext cx="3168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Unit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4357440" y="256428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u=658206043,1025129574&amp;gp=3"/>
          <p:cNvPicPr/>
          <p:nvPr/>
        </p:nvPicPr>
        <p:blipFill>
          <a:blip r:embed="rId1"/>
          <a:stretch/>
        </p:blipFill>
        <p:spPr>
          <a:xfrm rot="20934000">
            <a:off x="684000" y="183960"/>
            <a:ext cx="1304640" cy="13334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428760" y="1671480"/>
            <a:ext cx="814392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ho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 to _____ outside. You could hel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t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clean _____ the city par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’d like to _____ homeless people. You could give _____ food at the food ban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to help feed the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wa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to cheer _____ sick kids. You coul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sk hospitals to let you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kid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’d lik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t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help kids _____ their schoolwork. You could _______ in an after-school study prog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to teach kid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2486520" y="170028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1147320" y="2071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2433600" y="276228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1218240" y="31431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3504600" y="37861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3924720" y="422100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vis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4001040" y="48704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5"/>
          <p:cNvSpPr/>
          <p:nvPr/>
        </p:nvSpPr>
        <p:spPr>
          <a:xfrm>
            <a:off x="1693800" y="5300640"/>
            <a:ext cx="16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volunte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2556000" y="40464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2627280" y="47628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isten  and complete  the sentence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4"/>
          <p:cNvSpPr txBox="1"/>
          <p:nvPr/>
        </p:nvSpPr>
        <p:spPr>
          <a:xfrm>
            <a:off x="2484360" y="907920"/>
            <a:ext cx="41767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9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ff">
                    <a:alpha val="65000"/>
                  </a:srgbClr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pairwork</a:t>
            </a:r>
            <a:endParaRPr b="0" lang="en-US" sz="1800" spc="1" strike="noStrike">
              <a:ln w="0">
                <a:noFill/>
              </a:ln>
              <a:solidFill>
                <a:srgbClr val="00ccff">
                  <a:alpha val="65000"/>
                </a:srgbClr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95280" y="1341360"/>
            <a:ext cx="6913440" cy="1747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Roboto"/>
                <a:ea typeface="宋体"/>
              </a:rPr>
              <a:t>Practice the conversation in the picture above. Then have similar conversations using the information in 1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755640" y="4149720"/>
            <a:ext cx="6624720" cy="116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: 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 like to work out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: You could help clean up the city par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0" y="260280"/>
            <a:ext cx="8604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宋体"/>
              </a:rPr>
              <a:t>What other ways we could help peopl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宋体"/>
              </a:rPr>
              <a:t>Just think and fill in the blanks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  <a:ea typeface="宋体"/>
              </a:rPr>
              <a:t>according to the following pictures</a:t>
            </a:r>
            <a:r>
              <a:rPr b="0" lang="en-US" sz="3200" spc="-1" strike="noStrike">
                <a:solidFill>
                  <a:srgbClr val="ff0000"/>
                </a:solidFill>
                <a:latin typeface="Bookman Old Style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324000" y="1989000"/>
            <a:ext cx="78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300360" y="5516280"/>
            <a:ext cx="201636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ccff"/>
                </a:solidFill>
                <a:latin typeface="Arial"/>
              </a:rPr>
              <a:t>               </a:t>
            </a:r>
            <a:r>
              <a:rPr b="0" lang="en-US" sz="800" spc="-1" strike="noStrike">
                <a:solidFill>
                  <a:srgbClr val="66ccff"/>
                </a:solidFill>
                <a:latin typeface="Arial"/>
              </a:rPr>
              <a:t>frankm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help5-0"/>
          <p:cNvPicPr/>
          <p:nvPr/>
        </p:nvPicPr>
        <p:blipFill>
          <a:blip r:embed="rId1"/>
          <a:stretch/>
        </p:blipFill>
        <p:spPr>
          <a:xfrm>
            <a:off x="971640" y="0"/>
            <a:ext cx="7848360" cy="4846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1"/>
          <p:cNvSpPr/>
          <p:nvPr/>
        </p:nvSpPr>
        <p:spPr>
          <a:xfrm>
            <a:off x="1116000" y="50846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You could help the old people clean up their houses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2410200" y="76500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You could help the passengers with  their lugg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help5-5"/>
          <p:cNvPicPr/>
          <p:nvPr/>
        </p:nvPicPr>
        <p:blipFill>
          <a:blip r:embed="rId1"/>
          <a:stretch/>
        </p:blipFill>
        <p:spPr>
          <a:xfrm>
            <a:off x="2514600" y="188604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help6"/>
          <p:cNvPicPr/>
          <p:nvPr/>
        </p:nvPicPr>
        <p:blipFill>
          <a:blip r:embed="rId2"/>
          <a:stretch/>
        </p:blipFill>
        <p:spPr>
          <a:xfrm>
            <a:off x="971640" y="1208160"/>
            <a:ext cx="7199280" cy="4440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help1"/>
          <p:cNvPicPr/>
          <p:nvPr/>
        </p:nvPicPr>
        <p:blipFill>
          <a:blip r:embed="rId3"/>
          <a:stretch/>
        </p:blipFill>
        <p:spPr>
          <a:xfrm>
            <a:off x="826920" y="620640"/>
            <a:ext cx="7525080" cy="50166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9"/>
          <p:cNvSpPr/>
          <p:nvPr/>
        </p:nvSpPr>
        <p:spPr>
          <a:xfrm>
            <a:off x="6012000" y="6149880"/>
            <a:ext cx="2158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ictur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ccff"/>
                </a:solidFill>
                <a:latin typeface="Arial"/>
                <a:ea typeface="宋体"/>
              </a:rPr>
              <a:t>               </a:t>
            </a:r>
            <a:r>
              <a:rPr b="0" lang="en-US" sz="800" spc="-1" strike="noStrike">
                <a:solidFill>
                  <a:srgbClr val="66ccff"/>
                </a:solidFill>
                <a:latin typeface="Arial"/>
                <a:ea typeface="宋体"/>
              </a:rPr>
              <a:t>frankm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5640" y="5733720"/>
            <a:ext cx="7632720" cy="3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ould help the passengers with  their lugg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help3"/>
          <p:cNvPicPr/>
          <p:nvPr/>
        </p:nvPicPr>
        <p:blipFill>
          <a:blip r:embed="rId1"/>
          <a:stretch/>
        </p:blipFill>
        <p:spPr>
          <a:xfrm>
            <a:off x="179280" y="0"/>
            <a:ext cx="6553440" cy="43257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131640" y="5589720"/>
            <a:ext cx="1800360" cy="576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ture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rankman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468360" y="4437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ou could help the old people cross the street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help2"/>
          <p:cNvPicPr/>
          <p:nvPr/>
        </p:nvPicPr>
        <p:blipFill>
          <a:blip r:embed="rId1"/>
          <a:stretch/>
        </p:blipFill>
        <p:spPr>
          <a:xfrm>
            <a:off x="4140360" y="1989000"/>
            <a:ext cx="5276520" cy="3286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help2-2"/>
          <p:cNvPicPr/>
          <p:nvPr/>
        </p:nvPicPr>
        <p:blipFill>
          <a:blip r:embed="rId2"/>
          <a:stretch/>
        </p:blipFill>
        <p:spPr>
          <a:xfrm>
            <a:off x="0" y="-171360"/>
            <a:ext cx="4500720" cy="31687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4360" y="3860640"/>
            <a:ext cx="172872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nkm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539640" y="551664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ou could help plant trees and grass to beautify your homet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help4"/>
          <p:cNvPicPr/>
          <p:nvPr/>
        </p:nvPicPr>
        <p:blipFill>
          <a:blip r:embed="rId1"/>
          <a:stretch/>
        </p:blipFill>
        <p:spPr>
          <a:xfrm>
            <a:off x="826920" y="620640"/>
            <a:ext cx="6337440" cy="42037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796000" y="5805360"/>
            <a:ext cx="172872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ture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ankma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900000" y="4941720"/>
            <a:ext cx="674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ou could help the police catch the thiev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捐款"/>
          <p:cNvPicPr/>
          <p:nvPr/>
        </p:nvPicPr>
        <p:blipFill>
          <a:blip r:embed="rId1"/>
          <a:stretch/>
        </p:blipFill>
        <p:spPr>
          <a:xfrm>
            <a:off x="900000" y="260280"/>
            <a:ext cx="6408720" cy="50911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537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could give the money to the charity and help the poor peopl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0" y="907920"/>
            <a:ext cx="8244000" cy="49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  <a:ea typeface="宋体"/>
              </a:rPr>
              <a:t>Other ways we could  help peo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__________________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__________________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宋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__________________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900000" y="249228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ou could help plant trees and gras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eautify your homet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900000" y="19162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ou could help the passengers with  their lugg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971640" y="3213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ou could help the old people cross the street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971640" y="4221000"/>
            <a:ext cx="674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ou could help the police catch the thieves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900000" y="3716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You could help the old people clean up their houses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971640" y="494172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ou could give the money to the charity and help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or people.</a:t>
            </a:r>
            <a:r>
              <a:rPr b="1" lang="en-US" sz="3600" spc="-1" strike="noStrike">
                <a:solidFill>
                  <a:srgbClr val="ff66cc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3"/>
          <p:cNvSpPr/>
          <p:nvPr/>
        </p:nvSpPr>
        <p:spPr>
          <a:xfrm>
            <a:off x="395280" y="333360"/>
            <a:ext cx="2376360" cy="720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1944720" cy="503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ectio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1619280" y="4724280"/>
            <a:ext cx="5975280" cy="1285920"/>
          </a:xfrm>
          <a:prstGeom prst="rect">
            <a:avLst/>
          </a:prstGeom>
          <a:noFill/>
          <a:ln w="0">
            <a:noFill/>
          </a:ln>
          <a:effectLst>
            <a:outerShdw dist="45929" dir="7428877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WordArt 8"/>
          <p:cNvSpPr txBox="1"/>
          <p:nvPr/>
        </p:nvSpPr>
        <p:spPr>
          <a:xfrm>
            <a:off x="2771640" y="4724280"/>
            <a:ext cx="3876840" cy="14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Warming up</a:t>
            </a:r>
            <a:endParaRPr b="0" lang="en-US" sz="5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pic>
        <p:nvPicPr>
          <p:cNvPr id="88" name="Picture 9" descr="help8"/>
          <p:cNvPicPr/>
          <p:nvPr/>
        </p:nvPicPr>
        <p:blipFill>
          <a:blip r:embed="rId3"/>
          <a:stretch/>
        </p:blipFill>
        <p:spPr>
          <a:xfrm>
            <a:off x="2987640" y="836640"/>
            <a:ext cx="3714840" cy="417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u=658206043,1025129574&amp;gp=3"/>
          <p:cNvPicPr/>
          <p:nvPr/>
        </p:nvPicPr>
        <p:blipFill>
          <a:blip r:embed="rId1"/>
          <a:stretch/>
        </p:blipFill>
        <p:spPr>
          <a:xfrm rot="20934000">
            <a:off x="8172000" y="1341000"/>
            <a:ext cx="906480" cy="9255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468360" y="1700280"/>
            <a:ext cx="6697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b    listen again. Fill in the blan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34920" y="2492280"/>
            <a:ext cx="9144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e need to ______  _______  _______ a pl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to tell people about the city park clean-u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ean-Up Day is only two weeks from now.We can’t _______  _______ making a p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e could _______  _______ sig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 make some notices, too. The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’ll _______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fter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e could each _______  _______ ten people and ask them to c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7" descr="2"/>
          <p:cNvPicPr/>
          <p:nvPr/>
        </p:nvPicPr>
        <p:blipFill>
          <a:blip r:embed="rId2"/>
          <a:stretch/>
        </p:blipFill>
        <p:spPr>
          <a:xfrm>
            <a:off x="250920" y="287280"/>
            <a:ext cx="1562040" cy="1206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3"/>
          <p:cNvPicPr/>
          <p:nvPr/>
        </p:nvPicPr>
        <p:blipFill>
          <a:blip r:embed="rId3"/>
          <a:stretch/>
        </p:blipFill>
        <p:spPr>
          <a:xfrm>
            <a:off x="2050920" y="71280"/>
            <a:ext cx="1600200" cy="1219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4"/>
          <p:cNvPicPr/>
          <p:nvPr/>
        </p:nvPicPr>
        <p:blipFill>
          <a:blip r:embed="rId4"/>
          <a:stretch/>
        </p:blipFill>
        <p:spPr>
          <a:xfrm>
            <a:off x="3851280" y="142920"/>
            <a:ext cx="1422360" cy="1270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5"/>
          <p:cNvPicPr/>
          <p:nvPr/>
        </p:nvPicPr>
        <p:blipFill>
          <a:blip r:embed="rId5"/>
          <a:stretch/>
        </p:blipFill>
        <p:spPr>
          <a:xfrm>
            <a:off x="5508720" y="71280"/>
            <a:ext cx="1701720" cy="1219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6"/>
          <p:cNvPicPr/>
          <p:nvPr/>
        </p:nvPicPr>
        <p:blipFill>
          <a:blip r:embed="rId6"/>
          <a:stretch/>
        </p:blipFill>
        <p:spPr>
          <a:xfrm>
            <a:off x="7164360" y="71280"/>
            <a:ext cx="1701720" cy="11941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2"/>
          <p:cNvSpPr/>
          <p:nvPr/>
        </p:nvSpPr>
        <p:spPr>
          <a:xfrm>
            <a:off x="2144160" y="2492280"/>
            <a:ext cx="30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come    up       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7453080" y="335772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2136240" y="429408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put      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6"/>
          <p:cNvSpPr/>
          <p:nvPr/>
        </p:nvSpPr>
        <p:spPr>
          <a:xfrm>
            <a:off x="5725440" y="479736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h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7"/>
          <p:cNvSpPr/>
          <p:nvPr/>
        </p:nvSpPr>
        <p:spPr>
          <a:xfrm>
            <a:off x="2795760" y="5786280"/>
            <a:ext cx="15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call    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685080" y="371808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7597080" y="47973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4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7"/>
          <p:cNvSpPr/>
          <p:nvPr/>
        </p:nvSpPr>
        <p:spPr>
          <a:xfrm>
            <a:off x="1549440" y="262080"/>
            <a:ext cx="7343640" cy="1191240"/>
          </a:xfrm>
          <a:prstGeom prst="rect">
            <a:avLst/>
          </a:prstGeom>
          <a:solidFill>
            <a:srgbClr val="009999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Roboto"/>
                <a:ea typeface="宋体"/>
              </a:rPr>
              <a:t>Lei Feng Day is two weeks from now. We need to come up with a plan. What would you like to do? Talk with your partner and come up with a p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324000" y="1773360"/>
            <a:ext cx="70578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A: We need to come up with a plan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 for the City Park Clean-Up Day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B: Let’s have lunch fir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A: No, we 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need to start now.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Clean-Up Day is only two weeks from 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B: 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9" descr="C1E8D660F69A168262290E1899862DAF"/>
          <p:cNvPicPr/>
          <p:nvPr/>
        </p:nvPicPr>
        <p:blipFill>
          <a:blip r:embed="rId1"/>
          <a:stretch/>
        </p:blipFill>
        <p:spPr>
          <a:xfrm>
            <a:off x="7164360" y="5373720"/>
            <a:ext cx="1511280" cy="1197000"/>
          </a:xfrm>
          <a:prstGeom prst="rect">
            <a:avLst/>
          </a:prstGeom>
          <a:ln w="0">
            <a:noFill/>
          </a:ln>
        </p:spPr>
      </p:pic>
      <p:sp>
        <p:nvSpPr>
          <p:cNvPr id="180" name="Oval 2"/>
          <p:cNvSpPr/>
          <p:nvPr/>
        </p:nvSpPr>
        <p:spPr>
          <a:xfrm>
            <a:off x="144360" y="189000"/>
            <a:ext cx="1114560" cy="792000"/>
          </a:xfrm>
          <a:prstGeom prst="ellipse">
            <a:avLst/>
          </a:prstGeom>
          <a:gradFill rotWithShape="0">
            <a:gsLst>
              <a:gs pos="0">
                <a:srgbClr val="77dddd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ccc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142920" y="642960"/>
            <a:ext cx="85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  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(1)help oneself to sth.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随便吃食物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Help yourselves to  apples, boy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（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）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with the help of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=with one’s hel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在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……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的帮助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With the help of the teachers, I get good grades  in all subjec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755640" y="836640"/>
            <a:ext cx="7921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1 help sb. out “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帮助某人解决难题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I can’t work out this math problem. Please help me ou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285840" y="350028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(1)help sb. with sth. =help sb. do/to do s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在某事上帮助某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I help him with his English every da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07640" y="117000"/>
            <a:ext cx="8715240" cy="60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They told me stories about the past and how things used to b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他们给我讲过去的生活经历，讲过去是什么样子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used to  be/do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曾经。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She used to live in that city befo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used to be /do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过去常做某事，现在不那样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d you use to sing when you do housewor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915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800000"/>
                </a:solidFill>
                <a:latin typeface="Arial Black"/>
              </a:rPr>
              <a:t>Read the article,What do Mario and Mary volunteer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797868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Students Who Volunte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ario Green and Mary Brown from Riverside High School 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give up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several hours each week to help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ario loves animals and wants 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to be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an animal doctor. He volunteers at an animal hospital every Saturday morn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dc6182"/>
          <p:cNvPicPr/>
          <p:nvPr/>
        </p:nvPicPr>
        <p:blipFill>
          <a:blip r:embed="rId1"/>
          <a:stretch/>
        </p:blipFill>
        <p:spPr>
          <a:xfrm>
            <a:off x="7451640" y="0"/>
            <a:ext cx="1368360" cy="10224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3708360" y="69228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250920" y="260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3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rio believes it can help him to get his future dream job. “It’s hard work,” he say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ut I want to learn more about how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care for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imals. 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I get such a strong </a:t>
            </a:r>
            <a:r>
              <a:rPr b="0" lang="en-US" sz="2800" spc="-1" strike="noStrike">
                <a:solidFill>
                  <a:srgbClr val="009999"/>
                </a:solidFill>
                <a:latin typeface="Arial Black"/>
              </a:rPr>
              <a:t>feeling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 of</a:t>
            </a:r>
            <a:r>
              <a:rPr b="0" lang="en-US" sz="2800" spc="-1" strike="noStrike">
                <a:solidFill>
                  <a:srgbClr val="009999"/>
                </a:solidFill>
                <a:latin typeface="Arial Black"/>
              </a:rPr>
              <a:t> satisfaction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 when I see the animals get better and the look of joy on their owners’ faces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照片 005"/>
          <p:cNvPicPr/>
          <p:nvPr/>
        </p:nvPicPr>
        <p:blipFill>
          <a:blip r:embed="rId1"/>
          <a:stretch/>
        </p:blipFill>
        <p:spPr>
          <a:xfrm>
            <a:off x="1403280" y="3933720"/>
            <a:ext cx="583416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feeling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zh-TW" sz="2800" spc="-1" strike="noStrike">
                <a:solidFill>
                  <a:srgbClr val="000000"/>
                </a:solidFill>
                <a:latin typeface="Arial Black"/>
              </a:rPr>
              <a:t>感觉；感触。它 为可数名词，表示人的喜怒哀乐 或冷热痛累等感受或感觉。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have a feeling that we are being followed.</a:t>
            </a:r>
            <a:r>
              <a:rPr b="1" lang="zh-TW" sz="2800" spc="-1" strike="noStrike">
                <a:solidFill>
                  <a:srgbClr val="000000"/>
                </a:solidFill>
                <a:latin typeface="Arial Black"/>
              </a:rPr>
              <a:t>我有种正被人跟踪的 感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care for</a:t>
            </a:r>
            <a:r>
              <a:rPr b="1" lang="zh-TW" sz="3200" spc="-1" strike="noStrike">
                <a:solidFill>
                  <a:srgbClr val="ff0000"/>
                </a:solidFill>
                <a:latin typeface="Arial Black"/>
              </a:rPr>
              <a:t>照料；服侍；关心</a:t>
            </a:r>
            <a:r>
              <a:rPr b="1" lang="zh-TW" sz="3200" spc="-1" strike="noStrike">
                <a:solidFill>
                  <a:srgbClr val="000000"/>
                </a:solidFill>
                <a:latin typeface="Arial Black"/>
              </a:rPr>
              <a:t>。 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We must care for each other and help each other.</a:t>
            </a:r>
            <a:r>
              <a:rPr b="1" lang="zh-TW" sz="3200" spc="-1" strike="noStrike">
                <a:solidFill>
                  <a:srgbClr val="000000"/>
                </a:solidFill>
                <a:latin typeface="Arial Black"/>
              </a:rPr>
              <a:t>我们要互相 关心，互相帮助。延伸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care for a)</a:t>
            </a:r>
            <a:r>
              <a:rPr b="1" lang="zh-TW" sz="3200" spc="-1" strike="noStrike">
                <a:solidFill>
                  <a:srgbClr val="000000"/>
                </a:solidFill>
                <a:latin typeface="Arial Black"/>
              </a:rPr>
              <a:t>喜欢；宠爱。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don’t much care for that sort of man.</a:t>
            </a:r>
            <a:r>
              <a:rPr b="1" lang="zh-TW" sz="3200" spc="-1" strike="noStrike">
                <a:solidFill>
                  <a:srgbClr val="000000"/>
                </a:solidFill>
                <a:latin typeface="Arial Black"/>
              </a:rPr>
              <a:t>我不太 喜欢那种人。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b)</a:t>
            </a:r>
            <a:r>
              <a:rPr b="1" lang="zh-TW" sz="3200" spc="-1" strike="noStrike">
                <a:solidFill>
                  <a:srgbClr val="000000"/>
                </a:solidFill>
                <a:latin typeface="Arial Black"/>
              </a:rPr>
              <a:t>尊重。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do care for what he says.</a:t>
            </a:r>
            <a:r>
              <a:rPr b="1" lang="zh-TW" sz="3200" spc="-1" strike="noStrike">
                <a:solidFill>
                  <a:srgbClr val="000000"/>
                </a:solidFill>
                <a:latin typeface="Arial Black"/>
              </a:rPr>
              <a:t>我对他的 话的确很尊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528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I get such a strong feeling of satisfaction when I see the animals get better and the look of joy on their owners</a:t>
            </a:r>
            <a:r>
              <a:rPr b="0" lang="zh-CN" sz="3200" spc="-1" strike="noStrike">
                <a:solidFill>
                  <a:srgbClr val="ff0000"/>
                </a:solidFill>
                <a:latin typeface="Arial Black"/>
              </a:rPr>
              <a:t>，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faces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句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当我看到动物们（病情）渐好，看到它们主人脸上的喜悦表情时，我产生出那么一种极强的满足感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890640" y="70164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宋体"/>
              </a:rPr>
              <a:t>Do you often help othe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84360" y="148608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  <a:ea typeface="宋体"/>
              </a:rPr>
              <a:t>What other ways we could help people?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马云"/>
          <p:cNvPicPr/>
          <p:nvPr/>
        </p:nvPicPr>
        <p:blipFill>
          <a:blip r:embed="rId1"/>
          <a:stretch/>
        </p:blipFill>
        <p:spPr>
          <a:xfrm>
            <a:off x="971640" y="2060640"/>
            <a:ext cx="6350040" cy="421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920" y="260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此句中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get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两次用法意义各不相同。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第一个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get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意思是</a:t>
            </a:r>
            <a:r>
              <a:rPr b="0" lang="zh-CN" sz="2800" spc="-1" strike="noStrike">
                <a:solidFill>
                  <a:srgbClr val="000000"/>
                </a:solidFill>
                <a:latin typeface="Arial Black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生；形成</a:t>
            </a:r>
            <a:r>
              <a:rPr b="0" lang="zh-CN" sz="2800" spc="-1" strike="noStrike">
                <a:solidFill>
                  <a:srgbClr val="000000"/>
                </a:solidFill>
                <a:latin typeface="Arial Black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为及物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词，常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feeling 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感觉；情感）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idea 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想法；主意）等词搭配使用。例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Do you get the feeling that we’re not welcome here?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有这里不欢迎我们的感觉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  <a:ea typeface="黑体"/>
              </a:rPr>
              <a:t>How did you get such an ide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怎么会产生这样一个想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个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get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系动词，后接形容词，表示体质、情绪、天气等方面的改变，通常译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Black"/>
                <a:ea typeface="黑体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变得；变为</a:t>
            </a:r>
            <a:r>
              <a:rPr b="0" lang="zh-CN" sz="2800" spc="-1" strike="noStrike">
                <a:solidFill>
                  <a:srgbClr val="000000"/>
                </a:solidFill>
                <a:latin typeface="Arial Black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例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404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tisfactio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满足；满意。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have a feeling of satisfaction.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我有一种满足感。延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atisfy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使）满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满意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seems that no one can satisfy him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看起来好像无人能使他满 意。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) satisfied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adj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感到满意 的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’m satisfied at this result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我对这一结果很满意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。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) satisfying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adj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令人满意的。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s performance is satisfying this term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这学期他的表现令人 满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ry is a book lover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he could read by herself at the age of four.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Last year, she decided to try out for a volunteer after-school reading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he still works there once a week to help kids learn to rea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e could read by herself at the age of f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她在四岁时就能够独自看书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此句中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反身代词” 表示“独自地；独立地” ，常与动词或动词短语连用，作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子的方式状语。再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hildren should learn to do things by themselve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孩子们应当学习独立做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86868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kids are sitting in ” the library, but you can see in their eyes that they ’re going on a different journey with each new book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Volunteering here is a dream come true for me.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I can do what I love to do and help others at the same ti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. Volunteering here is a dream come true for 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这里当志愿者对我来说是梦想成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此句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ream come tru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表示“梦想成为现实；梦想成真” ，是一种固定结构。再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 got the latest CD player as a birthday present yesterday. It was just a dream com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昨天我收到了一份生日礼物，是那种最新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播放机，真是梦想成真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. I ’ve always wanted to visit New York, so going there on vacation next month will be a dream come true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一直都想去纽约，所以下个月到那儿度假对我来说将是梦想成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85480" y="428760"/>
            <a:ext cx="87152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5 Volunteering here is a dream come true for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在这里当志愿者对我来说是梦想成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I got the latest CD player as a birthday present yesterday. It was just a dream come tru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昨天我收到了最新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C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播放器作为一份生日礼物，真是梦想成真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066680" y="2514600"/>
            <a:ext cx="74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动词不定式专讲专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0" y="0"/>
            <a:ext cx="9144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动词不定式做宾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1. I don’t know how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to swi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2. We wish ( hope 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to travel around the worl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3. I prefe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to eat food that I lik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4. The room need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to be big enough for 3 peop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 I ’d lik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to volunte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at a local hospital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3048120" y="1295280"/>
            <a:ext cx="2209680" cy="0"/>
          </a:xfrm>
          <a:prstGeom prst="line">
            <a:avLst/>
          </a:prstGeom>
          <a:ln cap="sq"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3733920" y="1981080"/>
            <a:ext cx="4495680" cy="0"/>
          </a:xfrm>
          <a:prstGeom prst="line">
            <a:avLst/>
          </a:prstGeom>
          <a:ln cap="sq"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2209680" y="2743200"/>
            <a:ext cx="1828800" cy="0"/>
          </a:xfrm>
          <a:prstGeom prst="line">
            <a:avLst/>
          </a:prstGeom>
          <a:ln cap="sq"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6"/>
          <p:cNvSpPr/>
          <p:nvPr/>
        </p:nvSpPr>
        <p:spPr>
          <a:xfrm flipH="1">
            <a:off x="4038480" y="3429000"/>
            <a:ext cx="4572000" cy="0"/>
          </a:xfrm>
          <a:prstGeom prst="line">
            <a:avLst/>
          </a:prstGeom>
          <a:ln cap="sq"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7"/>
          <p:cNvSpPr/>
          <p:nvPr/>
        </p:nvSpPr>
        <p:spPr>
          <a:xfrm>
            <a:off x="2209680" y="4191120"/>
            <a:ext cx="5257800" cy="0"/>
          </a:xfrm>
          <a:prstGeom prst="line">
            <a:avLst/>
          </a:prstGeom>
          <a:ln cap="sq"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0" y="4572000"/>
            <a:ext cx="9144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动词不定式做宾语补足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宾语和宾补在逻辑上有主谓关系，又称复合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语。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饥饿3"/>
          <p:cNvPicPr/>
          <p:nvPr/>
        </p:nvPicPr>
        <p:blipFill>
          <a:blip r:embed="rId1"/>
          <a:stretch/>
        </p:blipFill>
        <p:spPr>
          <a:xfrm>
            <a:off x="0" y="0"/>
            <a:ext cx="9721800" cy="59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0" y="297000"/>
            <a:ext cx="91440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Could you tell m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how to ge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to the mall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2. No one invited m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to tak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part in the meeting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3. I can’t stand the hamburgers. The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mak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feel sic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4. Could you help me (to) finish the work on ti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 Please let me know if you will com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to se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tonight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3"/>
          <p:cNvSpPr/>
          <p:nvPr/>
        </p:nvSpPr>
        <p:spPr>
          <a:xfrm>
            <a:off x="3809880" y="762120"/>
            <a:ext cx="3733920" cy="0"/>
          </a:xfrm>
          <a:prstGeom prst="line">
            <a:avLst/>
          </a:prstGeom>
          <a:ln cap="sq"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4"/>
          <p:cNvSpPr/>
          <p:nvPr/>
        </p:nvSpPr>
        <p:spPr>
          <a:xfrm>
            <a:off x="3962520" y="1523880"/>
            <a:ext cx="4647960" cy="0"/>
          </a:xfrm>
          <a:prstGeom prst="line">
            <a:avLst/>
          </a:prstGeom>
          <a:ln cap="sq"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5"/>
          <p:cNvSpPr/>
          <p:nvPr/>
        </p:nvSpPr>
        <p:spPr>
          <a:xfrm>
            <a:off x="685800" y="2971800"/>
            <a:ext cx="1523880" cy="0"/>
          </a:xfrm>
          <a:prstGeom prst="line">
            <a:avLst/>
          </a:prstGeom>
          <a:ln cap="sq"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6"/>
          <p:cNvSpPr/>
          <p:nvPr/>
        </p:nvSpPr>
        <p:spPr>
          <a:xfrm>
            <a:off x="4114800" y="3733920"/>
            <a:ext cx="4724280" cy="0"/>
          </a:xfrm>
          <a:prstGeom prst="line">
            <a:avLst/>
          </a:prstGeom>
          <a:ln cap="sq"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7"/>
          <p:cNvSpPr/>
          <p:nvPr/>
        </p:nvSpPr>
        <p:spPr>
          <a:xfrm>
            <a:off x="3048120" y="4419720"/>
            <a:ext cx="990360" cy="0"/>
          </a:xfrm>
          <a:prstGeom prst="line">
            <a:avLst/>
          </a:prstGeom>
          <a:ln cap="sq"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2057400" y="5943600"/>
            <a:ext cx="685800" cy="0"/>
          </a:xfrm>
          <a:prstGeom prst="line">
            <a:avLst/>
          </a:prstGeom>
          <a:ln cap="sq"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9"/>
          <p:cNvSpPr/>
          <p:nvPr/>
        </p:nvSpPr>
        <p:spPr>
          <a:xfrm>
            <a:off x="3657600" y="5943600"/>
            <a:ext cx="2514600" cy="0"/>
          </a:xfrm>
          <a:prstGeom prst="line">
            <a:avLst/>
          </a:prstGeom>
          <a:ln cap="sq"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0"/>
          <p:cNvSpPr/>
          <p:nvPr/>
        </p:nvSpPr>
        <p:spPr>
          <a:xfrm>
            <a:off x="3809880" y="6629400"/>
            <a:ext cx="4267440" cy="0"/>
          </a:xfrm>
          <a:prstGeom prst="line">
            <a:avLst/>
          </a:prstGeom>
          <a:ln cap="sq"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0" y="152280"/>
            <a:ext cx="91440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动词不定式做定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1. I have a lo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to d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today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2. I want to get someth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to rea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in my holiday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3. He has 3 letter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to wri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this evening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4. Please dive me some paper to writ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 She is a nice person to work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 wi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6. In my family, my mother is always the first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to get u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3"/>
          <p:cNvSpPr/>
          <p:nvPr/>
        </p:nvSpPr>
        <p:spPr>
          <a:xfrm>
            <a:off x="2743200" y="1371600"/>
            <a:ext cx="838080" cy="0"/>
          </a:xfrm>
          <a:prstGeom prst="line">
            <a:avLst/>
          </a:prstGeom>
          <a:ln cap="sq"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4"/>
          <p:cNvSpPr/>
          <p:nvPr/>
        </p:nvSpPr>
        <p:spPr>
          <a:xfrm>
            <a:off x="4876920" y="2133720"/>
            <a:ext cx="3657600" cy="0"/>
          </a:xfrm>
          <a:prstGeom prst="line">
            <a:avLst/>
          </a:prstGeom>
          <a:ln cap="sq"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5"/>
          <p:cNvSpPr/>
          <p:nvPr/>
        </p:nvSpPr>
        <p:spPr>
          <a:xfrm>
            <a:off x="3505320" y="2895480"/>
            <a:ext cx="3581280" cy="0"/>
          </a:xfrm>
          <a:prstGeom prst="line">
            <a:avLst/>
          </a:prstGeom>
          <a:ln cap="sq"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6"/>
          <p:cNvSpPr/>
          <p:nvPr/>
        </p:nvSpPr>
        <p:spPr>
          <a:xfrm>
            <a:off x="5486400" y="3581280"/>
            <a:ext cx="1828800" cy="0"/>
          </a:xfrm>
          <a:prstGeom prst="line">
            <a:avLst/>
          </a:prstGeom>
          <a:ln cap="sq"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7"/>
          <p:cNvSpPr/>
          <p:nvPr/>
        </p:nvSpPr>
        <p:spPr>
          <a:xfrm>
            <a:off x="4191120" y="4343400"/>
            <a:ext cx="2286000" cy="0"/>
          </a:xfrm>
          <a:prstGeom prst="line">
            <a:avLst/>
          </a:prstGeom>
          <a:ln cap="sq"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8"/>
          <p:cNvSpPr/>
          <p:nvPr/>
        </p:nvSpPr>
        <p:spPr>
          <a:xfrm>
            <a:off x="685800" y="5791320"/>
            <a:ext cx="1676520" cy="0"/>
          </a:xfrm>
          <a:prstGeom prst="line">
            <a:avLst/>
          </a:prstGeom>
          <a:ln cap="sq"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9"/>
          <p:cNvSpPr/>
          <p:nvPr/>
        </p:nvSpPr>
        <p:spPr>
          <a:xfrm>
            <a:off x="3657600" y="6553080"/>
            <a:ext cx="4952880" cy="0"/>
          </a:xfrm>
          <a:prstGeom prst="line">
            <a:avLst/>
          </a:prstGeom>
          <a:ln cap="sq"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0" y="228600"/>
            <a:ext cx="9144000" cy="70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动词不定式做主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1. To know something about English is one thing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to know English is quite another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zh-CN" sz="3200" spc="-1" strike="noStrike">
                <a:solidFill>
                  <a:srgbClr val="9999ff"/>
                </a:solidFill>
                <a:latin typeface="华文新魏"/>
                <a:ea typeface="华文新魏"/>
              </a:rPr>
              <a:t>懂点英语是一回事，掌握英语完全是另一回事</a:t>
            </a:r>
            <a:r>
              <a:rPr b="1" lang="en-US" sz="3200" spc="-1" strike="noStrike">
                <a:solidFill>
                  <a:srgbClr val="9999ff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多数情况下都用做形式主语放在句首，而把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正的做主语的动词不定式短语放在句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2. It takes 30 hours to get there by train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3. It’s very kind of you to help me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4. What are the best ways to learn more English ?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3"/>
          <p:cNvSpPr/>
          <p:nvPr/>
        </p:nvSpPr>
        <p:spPr>
          <a:xfrm>
            <a:off x="762120" y="1447920"/>
            <a:ext cx="5867280" cy="0"/>
          </a:xfrm>
          <a:prstGeom prst="line">
            <a:avLst/>
          </a:prstGeom>
          <a:ln cap="sq"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685800" y="2209680"/>
            <a:ext cx="2819520" cy="0"/>
          </a:xfrm>
          <a:prstGeom prst="line">
            <a:avLst/>
          </a:prstGeom>
          <a:ln cap="sq"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5"/>
          <p:cNvSpPr/>
          <p:nvPr/>
        </p:nvSpPr>
        <p:spPr>
          <a:xfrm>
            <a:off x="3733920" y="5181480"/>
            <a:ext cx="3429000" cy="0"/>
          </a:xfrm>
          <a:prstGeom prst="line">
            <a:avLst/>
          </a:prstGeom>
          <a:ln cap="sq"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6"/>
          <p:cNvSpPr/>
          <p:nvPr/>
        </p:nvSpPr>
        <p:spPr>
          <a:xfrm>
            <a:off x="685800" y="5181480"/>
            <a:ext cx="380880" cy="0"/>
          </a:xfrm>
          <a:prstGeom prst="line">
            <a:avLst/>
          </a:prstGeom>
          <a:ln cap="sq"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4267080" y="5867280"/>
            <a:ext cx="1905120" cy="0"/>
          </a:xfrm>
          <a:prstGeom prst="line">
            <a:avLst/>
          </a:prstGeom>
          <a:ln cap="sq"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4876920" y="6553080"/>
            <a:ext cx="3733560" cy="0"/>
          </a:xfrm>
          <a:prstGeom prst="line">
            <a:avLst/>
          </a:prstGeom>
          <a:ln cap="sq"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4935240" y="5013360"/>
            <a:ext cx="381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help stop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hung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143000" y="3657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54160" y="486900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They are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hungr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an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homele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9adf265bjw1dvpzyiyhooj"/>
          <p:cNvPicPr/>
          <p:nvPr/>
        </p:nvPicPr>
        <p:blipFill>
          <a:blip r:embed="rId1"/>
          <a:stretch/>
        </p:blipFill>
        <p:spPr>
          <a:xfrm>
            <a:off x="4643280" y="549360"/>
            <a:ext cx="5099040" cy="3814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饥饿1"/>
          <p:cNvPicPr/>
          <p:nvPr/>
        </p:nvPicPr>
        <p:blipFill>
          <a:blip r:embed="rId2"/>
          <a:stretch/>
        </p:blipFill>
        <p:spPr>
          <a:xfrm>
            <a:off x="-468360" y="0"/>
            <a:ext cx="5545080" cy="4005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468360" y="4428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There are many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other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ways you could help peop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6" descr="u=635311576,821417782&amp;gp=3"/>
          <p:cNvPicPr/>
          <p:nvPr/>
        </p:nvPicPr>
        <p:blipFill>
          <a:blip r:embed="rId1"/>
          <a:stretch/>
        </p:blipFill>
        <p:spPr>
          <a:xfrm>
            <a:off x="5005440" y="1127160"/>
            <a:ext cx="3384360" cy="3024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9"/>
          <p:cNvSpPr/>
          <p:nvPr/>
        </p:nvSpPr>
        <p:spPr>
          <a:xfrm>
            <a:off x="181080" y="838080"/>
            <a:ext cx="46800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help</a:t>
            </a:r>
            <a:r>
              <a:rPr b="1" lang="en-US" sz="3600" spc="-1" strike="noStrike">
                <a:solidFill>
                  <a:srgbClr val="808080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  <a:ea typeface="宋体"/>
              </a:rPr>
              <a:t>clean up</a:t>
            </a:r>
            <a:r>
              <a:rPr b="1" lang="en-US" sz="3600" spc="-1" strike="noStrike">
                <a:solidFill>
                  <a:srgbClr val="808080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the city pa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4716360" y="4437000"/>
            <a:ext cx="4248360" cy="1312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宋体"/>
              </a:rPr>
              <a:t>cheer up</a:t>
            </a:r>
            <a:r>
              <a:rPr b="1" lang="en-US" sz="4000" spc="-1" strike="noStrike">
                <a:solidFill>
                  <a:srgbClr val="808080"/>
                </a:solidFill>
                <a:latin typeface="Times New Roman"/>
                <a:ea typeface="宋体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宋体"/>
              </a:rPr>
              <a:t>the old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7" descr="clean up the park"/>
          <p:cNvPicPr/>
          <p:nvPr/>
        </p:nvPicPr>
        <p:blipFill>
          <a:blip r:embed="rId4"/>
          <a:stretch/>
        </p:blipFill>
        <p:spPr>
          <a:xfrm>
            <a:off x="396720" y="2278080"/>
            <a:ext cx="414036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684360" y="4797360"/>
            <a:ext cx="6551640" cy="11912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33cc"/>
                </a:solidFill>
                <a:latin typeface="Comic Sans MS"/>
                <a:ea typeface="宋体"/>
              </a:rPr>
              <a:t>give out(</a:t>
            </a:r>
            <a:r>
              <a:rPr b="1" i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分发</a:t>
            </a:r>
            <a:r>
              <a:rPr b="1" i="1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,</a:t>
            </a:r>
            <a:r>
              <a:rPr b="1" i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派发</a:t>
            </a:r>
            <a:r>
              <a:rPr b="0" i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  <a:ea typeface="宋体"/>
              </a:rPr>
              <a:t>food at the food ban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派发"/>
          <p:cNvPicPr/>
          <p:nvPr/>
        </p:nvPicPr>
        <p:blipFill>
          <a:blip r:embed="rId1"/>
          <a:stretch/>
        </p:blipFill>
        <p:spPr>
          <a:xfrm>
            <a:off x="1187280" y="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6"/>
          <p:cNvSpPr/>
          <p:nvPr/>
        </p:nvSpPr>
        <p:spPr>
          <a:xfrm>
            <a:off x="612720" y="4797360"/>
            <a:ext cx="741672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volunteer in an after-school study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5" descr="志愿者"/>
          <p:cNvPicPr/>
          <p:nvPr/>
        </p:nvPicPr>
        <p:blipFill>
          <a:blip r:embed="rId1"/>
          <a:stretch/>
        </p:blipFill>
        <p:spPr>
          <a:xfrm>
            <a:off x="142920" y="119160"/>
            <a:ext cx="8750160" cy="4149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打扫公园"/>
          <p:cNvPicPr/>
          <p:nvPr/>
        </p:nvPicPr>
        <p:blipFill>
          <a:blip r:embed="rId1"/>
          <a:stretch/>
        </p:blipFill>
        <p:spPr>
          <a:xfrm>
            <a:off x="1763640" y="1773360"/>
            <a:ext cx="6804000" cy="4451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532080" y="9720"/>
            <a:ext cx="2571120" cy="122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’d like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 out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图片111"/>
          <p:cNvPicPr/>
          <p:nvPr/>
        </p:nvPicPr>
        <p:blipFill>
          <a:blip r:embed="rId2"/>
          <a:stretch/>
        </p:blipFill>
        <p:spPr>
          <a:xfrm>
            <a:off x="5940360" y="260280"/>
            <a:ext cx="283860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03:49:47Z</dcterms:created>
  <dc:creator>Administrator</dc:creator>
  <dc:description/>
  <cp:keywords/>
  <dc:language>en-US</dc:language>
  <cp:lastModifiedBy>will</cp:lastModifiedBy>
  <cp:lastPrinted>1899-12-30T00:00:00Z</cp:lastPrinted>
  <dcterms:modified xsi:type="dcterms:W3CDTF">2016-03-25T01:50:28Z</dcterms:modified>
  <cp:revision>70</cp:revision>
  <dc:subject/>
  <dc:title>Welcome to my cla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